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C64E-E26D-4514-B8B9-A8DFF2B28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8503-233D-422D-992F-DF21C25E4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9421-5AB4-4387-A687-9ECC03D72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ADB9-43A3-4CE1-863A-178C01ED6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13A6-9812-42F2-B692-1B75C37C4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F68A-997C-4ABE-919C-C051C6766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1284-6E86-400F-9DD8-5A6E80628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D84C-A077-4EAC-A17F-735E3CCB5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7B94-79A2-458C-AA89-EAD7017E8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BC35-F13F-4F93-B2C2-9E9E566D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F2A4-FF09-48DB-9D2B-46AC4ADB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A5A5-0BA1-42C5-B3A3-FFEE9D93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1B6CA-326C-4F17-BA69-E6A72F670A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859280" y="1700280"/>
            <a:ext cx="3619440" cy="2628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284720" y="549360"/>
            <a:ext cx="3467160" cy="22874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rcRect l="6270" t="-4294" r="9369" b="26362"/>
          <a:stretch/>
        </p:blipFill>
        <p:spPr>
          <a:xfrm>
            <a:off x="900000" y="765000"/>
            <a:ext cx="3888000" cy="1295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124000" y="1989000"/>
            <a:ext cx="299736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18:05:44Z</dcterms:created>
  <dc:creator>usuario</dc:creator>
  <dc:description/>
  <dc:language>en-US</dc:language>
  <cp:lastModifiedBy>usuario</cp:lastModifiedBy>
  <dcterms:modified xsi:type="dcterms:W3CDTF">2009-12-03T18:06:10Z</dcterms:modified>
  <cp:revision>1</cp:revision>
  <dc:subject/>
  <dc:title>Diapositiva 1</dc:title>
</cp:coreProperties>
</file>